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8CC-6C15-4855-BA20-6AC7F79E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F20-9AEF-45AE-A8F9-46BBF4B0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276-3242-43FE-BD2E-E95FDFD0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2F5-D399-4CBF-A31F-F23ADA68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75F3-90AE-47BE-A47F-C662F32D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C179-FCD1-4692-85E7-0F42C922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66F9-2DF5-4823-BCAD-A8547D3C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DD9F-44BB-45AA-9AC0-BF8EED3D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357B-E5D4-42CE-BF5B-5D23DD11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6647-820A-445A-957D-92AFBE3A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59F7-0F25-4CE3-B62D-4B480F6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0EE-9289-4771-81B1-9CC54F94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654F-D1D5-4755-8CAF-71223444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0E29-1878-4E25-997F-3C0D48E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0A8F-4F07-4025-BDF4-BBCE0B76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556D-09CD-4EA3-96D2-FECC808B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5422-8E0E-4E47-BAF2-FC560D1F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402-EFDA-4B67-A13A-BAC7A37D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0EA-B8E9-4741-9A79-1E43189B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733-B35F-4348-AA8E-F2A6BCA8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872-5ECF-44FE-B1F8-72C7FF2B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0AE-CC6B-47EB-A1B3-5FE1E93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E0F-5B8D-4146-BA78-A061886A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7D4-4A33-4520-8936-07FAF082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E6E8-4B63-46E7-9E91-E27FAC88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7DA8-8073-4EFF-8465-D71BD0765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666880"/>
            <a:ext cx="4724280" cy="1981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6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457200" y="228600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g Midas and the Golden To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6" descr="KING MIDAS AND THE GOLDEN TOUCH"/>
          <p:cNvPicPr/>
          <p:nvPr/>
        </p:nvPicPr>
        <p:blipFill>
          <a:blip r:embed="rId1"/>
          <a:stretch/>
        </p:blipFill>
        <p:spPr>
          <a:xfrm>
            <a:off x="5181480" y="30492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d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poonfu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ice cre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 much as a spoon will h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ngle serving s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685800" y="3581280"/>
            <a:ext cx="7543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cientist found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eciou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rtifac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famili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alu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438280" y="4952880"/>
            <a:ext cx="3429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was known for being an honest man throughou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l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a ruled by a king or que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uni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838080" y="3657600"/>
            <a:ext cx="72392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planned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dor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room with flower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819520" y="5257800"/>
            <a:ext cx="3200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doctor needs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leans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his hands between patient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p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743200" y="5181480"/>
            <a:ext cx="3276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80880" y="1295280"/>
            <a:ext cx="335304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04920" y="2743200"/>
            <a:ext cx="32763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85800" y="4267080"/>
            <a:ext cx="26668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419720" y="1447920"/>
            <a:ext cx="35049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800600" y="3352680"/>
            <a:ext cx="32004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4876920" y="5181480"/>
            <a:ext cx="36576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9520" y="20570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add beauty to; put ornaments on; decorat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419720" y="457200"/>
            <a:ext cx="30477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MPj04329890000[1]"/>
          <p:cNvPicPr/>
          <p:nvPr/>
        </p:nvPicPr>
        <p:blipFill>
          <a:blip r:embed="rId1"/>
          <a:stretch/>
        </p:blipFill>
        <p:spPr>
          <a:xfrm>
            <a:off x="380880" y="457200"/>
            <a:ext cx="370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343040" y="21333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o make clean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495680" y="762120"/>
            <a:ext cx="304812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8" descr="MCj04418050000[1]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43040" y="21333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ithout lif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800600" y="609480"/>
            <a:ext cx="3048120" cy="129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MMj02190780000[1]"/>
          <p:cNvPicPr/>
          <p:nvPr/>
        </p:nvPicPr>
        <p:blipFill>
          <a:blip r:embed="rId1"/>
          <a:stretch/>
        </p:blipFill>
        <p:spPr>
          <a:xfrm>
            <a:off x="617400" y="1676520"/>
            <a:ext cx="262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9520" y="20570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aving great value; worth muc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419720" y="457200"/>
            <a:ext cx="30477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0" descr="MPj0439253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876560" y="2057040"/>
            <a:ext cx="3733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kingdom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419720" y="457200"/>
            <a:ext cx="26668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9" descr="MPj04386430000[1]"/>
          <p:cNvPicPr/>
          <p:nvPr/>
        </p:nvPicPr>
        <p:blipFill>
          <a:blip r:embed="rId1"/>
          <a:stretch/>
        </p:blipFill>
        <p:spPr>
          <a:xfrm>
            <a:off x="0" y="2940120"/>
            <a:ext cx="58672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343040" y="25905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 much as a spoon can ho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876920" y="762120"/>
            <a:ext cx="30477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7" descr="MPj04329530000[1]"/>
          <p:cNvPicPr/>
          <p:nvPr/>
        </p:nvPicPr>
        <p:blipFill>
          <a:blip r:embed="rId1"/>
          <a:stretch/>
        </p:blipFill>
        <p:spPr>
          <a:xfrm>
            <a:off x="0" y="0"/>
            <a:ext cx="4273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tone was cold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fe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unbelievab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t aliv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743200" y="4648320"/>
            <a:ext cx="3733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ynne M. Gorman</cp:lastModifiedBy>
  <dcterms:modified xsi:type="dcterms:W3CDTF">2012-03-05T15:45:41Z</dcterms:modified>
  <cp:revision>129</cp:revision>
  <dc:subject/>
  <dc:title>Frindle Vocabulary Words</dc:title>
</cp:coreProperties>
</file>